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B3D-77B9-421B-9196-56A65932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2DF-FD52-4B59-A350-2375F914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EB0-3CF9-4E88-A0AF-8B9B5537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6DC-54ED-4085-B38F-4C09BDC1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483B-A7DE-445D-87FD-A0902B5B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A901-72DC-44C8-B1D5-7D2442C0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83D-4E86-45BF-A192-0B1139D2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E425-0582-42D5-A5F9-3405E44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FA79-AE0C-496F-BB25-BE5A3F58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05C3-5052-4B5D-B1DF-F7EBD95F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8304-7C34-4E79-B358-92B80B2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76B-EABD-4875-9FAB-0E5B785C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1C1F-C530-4328-AF18-48B65BCE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E496-0255-464D-9703-8045B64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2173-D269-4DCC-9583-F990D2D4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3228-5C78-444E-84F2-C1A9D417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AC02-B90E-48C0-AAF8-1CC38241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6B7-1C53-46CD-8B2C-2C947EA9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C44-09B9-4E25-A07E-053E5FC1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C91-314F-4642-84A0-27BB9410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6E5-3737-41A2-998F-E1A6CAAE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A45-DE43-493E-90AB-D1941158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D24-6906-471E-B964-6294DB2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260-3F9C-4A11-AB45-2744D1BF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B056-E985-4B4D-86AC-FB1DBB118477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F15-0CD8-46FC-A0DA-0EB2755A5C7A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4419720"/>
            <a:ext cx="57913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Autism at a Glance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rief overview concerning history, definition, cause and complications of ASD.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History of Autism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eo Kanner (1943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ins the term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autism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to describe children who are withdrawn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807840" indent="-388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Believed the cause to be poor parenting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PA and IDEA recognize autism as a specific disability (1990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417960" indent="-417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esently, research is focus on understanding the genetic role in autism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revalence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tly debated but estimated to be about 1%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pproximately the same prevalence among all ethnic group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Autism Spectrum Disorder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haracteristics of autistic individuals may vary greatly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utism Spectrum Disorders (ASD):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efers to the full spectrum of autistic traits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sists of three disorders: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utistic Disorder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perger Syndrom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DD-NOS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Autism Spectrum Disorder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9520" y="1828800"/>
            <a:ext cx="89344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auses of ASD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he causes of ASD are not fully understood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rauma related to abuse or neglect is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a cause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iologica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-37512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MRI studies show abnormalities of the brain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2" marL="1122120" indent="-33984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Cerebellum –motor coordination, balance, cognition</a:t>
            </a:r>
            <a:endParaRPr b="0" lang="en-US" sz="1600" spc="-1" strike="noStrike">
              <a:solidFill>
                <a:srgbClr val="ffff00"/>
              </a:solidFill>
              <a:latin typeface="Verdana"/>
            </a:endParaRPr>
          </a:p>
          <a:p>
            <a:pPr lvl="2" marL="1122120" indent="-33984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Frontal Lobe – social and cognitive functions</a:t>
            </a:r>
            <a:endParaRPr b="0" lang="en-US" sz="1600" spc="-1" strike="noStrike">
              <a:solidFill>
                <a:srgbClr val="ffff00"/>
              </a:solidFill>
              <a:latin typeface="Verdana"/>
            </a:endParaRPr>
          </a:p>
          <a:p>
            <a:pPr lvl="2" marL="1122120" indent="-33984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Temporal Lobe – Plays role in understanding facial expressions and social cues</a:t>
            </a:r>
            <a:endParaRPr b="0" lang="en-US" sz="1600" spc="-1" strike="noStrike">
              <a:solidFill>
                <a:srgbClr val="ffff00"/>
              </a:solidFill>
              <a:latin typeface="Verdana"/>
            </a:endParaRPr>
          </a:p>
          <a:p>
            <a:pPr marL="403920" indent="-4039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vironmenta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-37512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Quality of care plays a role in development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-37512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Positive, structured environment significantly improves behavior problems</a:t>
            </a: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  <a:p>
            <a:pPr lvl="1" marL="780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omplications with Academic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Rote Memor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oblem-Solving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nguage Disorde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lf-Stimulatory Behavio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nsory Issu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6:18:38Z</dcterms:created>
  <dc:creator>Amanda Quail</dc:creator>
  <dc:description/>
  <dc:language>en-US</dc:language>
  <cp:lastModifiedBy>Amanda Quail</cp:lastModifiedBy>
  <dcterms:modified xsi:type="dcterms:W3CDTF">2010-06-11T06:19:22Z</dcterms:modified>
  <cp:revision>1</cp:revision>
  <dc:subject/>
  <dc:title>PowerPoint Presentation</dc:title>
</cp:coreProperties>
</file>